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EBBEB-ACEB-437B-8317-BC8901011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82B8B-807B-4339-ABB0-183942DBC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0B4E-ADF1-4A44-A9CA-DE03AEE2D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30168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9440" y="1639440"/>
            <a:ext cx="4819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Netwo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Do it yourself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Installation Sheet of Active Antenna 1"/>
          <p:cNvPicPr/>
          <p:nvPr/>
        </p:nvPicPr>
        <p:blipFill>
          <a:blip r:embed="rId1"/>
          <a:stretch/>
        </p:blipFill>
        <p:spPr>
          <a:xfrm>
            <a:off x="304920" y="762120"/>
            <a:ext cx="41907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Active Antenna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nstallation Sheet of Active Antenna 2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5800" y="317160"/>
            <a:ext cx="4794480" cy="3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nnectivity 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31560" y="1534680"/>
            <a:ext cx="480204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ds are a mission, not (yet) a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dwidth is perishable – there is excess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9.99% availability is not always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oms up along with top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ity is sca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00"/>
              </a:spcBef>
              <a:spcAft>
                <a:spcPts val="1426"/>
              </a:spcAft>
              <a:buNone/>
              <a:tabLst>
                <a:tab algn="l" pos="0"/>
                <a:tab algn="l" pos="28440"/>
                <a:tab algn="l" pos="485640"/>
                <a:tab algn="l" pos="942840"/>
                <a:tab algn="l" pos="1400040"/>
                <a:tab algn="l" pos="1857240"/>
                <a:tab algn="l" pos="2314440"/>
                <a:tab algn="l" pos="2771640"/>
                <a:tab algn="l" pos="3228840"/>
                <a:tab algn="l" pos="3686040"/>
                <a:tab algn="l" pos="4143240"/>
                <a:tab algn="l" pos="4600440"/>
                <a:tab algn="l" pos="5057640"/>
                <a:tab algn="l" pos="5514840"/>
                <a:tab algn="l" pos="5972040"/>
                <a:tab algn="l" pos="6429240"/>
                <a:tab algn="l" pos="6886440"/>
                <a:tab algn="l" pos="7343640"/>
                <a:tab algn="l" pos="7800840"/>
                <a:tab algn="l" pos="8258040"/>
                <a:tab algn="l" pos="87152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ans of Connectivity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PC is technology agnostic when it comes to connecting schools and kids to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ine, Wireless, Satellite are already and will be used to achieve our connectivity go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ksmy, Cambodia: Two-Way Satellite backhaul, local WiFi distribution between 3 schools, WiFi access within th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5632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dal, Uruguay: DSL backhaul, Pre-WiMax point-to-point distribution link, WiFi and Mesh access within the school and the 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endParaRPr b="1" lang="en-US" sz="18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6" name="Picture 3" descr="cellular-olpc-1"/>
          <p:cNvPicPr/>
          <p:nvPr/>
        </p:nvPicPr>
        <p:blipFill>
          <a:blip r:embed="rId1"/>
          <a:stretch/>
        </p:blipFill>
        <p:spPr>
          <a:xfrm>
            <a:off x="249120" y="1077840"/>
            <a:ext cx="4935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8080"/>
                </a:solidFill>
                <a:latin typeface="Arial"/>
              </a:rPr>
              <a:t>Example: Cellular Operator</a:t>
            </a:r>
            <a:br>
              <a:rPr sz="1800"/>
            </a:br>
            <a:r>
              <a:rPr b="1" lang="en-US" sz="1200" spc="-1" strike="noStrike">
                <a:solidFill>
                  <a:srgbClr val="ff8080"/>
                </a:solidFill>
                <a:latin typeface="Arial"/>
              </a:rPr>
              <a:t>(with added point to multipoint distribution radios)</a:t>
            </a:r>
            <a:endParaRPr b="1" lang="en-US" sz="1200" spc="-1" strike="noStrike">
              <a:solidFill>
                <a:srgbClr val="ff8080"/>
              </a:solidFill>
              <a:latin typeface="Arial"/>
            </a:endParaRPr>
          </a:p>
        </p:txBody>
      </p:sp>
      <p:pic>
        <p:nvPicPr>
          <p:cNvPr id="178" name="Picture 3" descr="cellular-olpc-2"/>
          <p:cNvPicPr/>
          <p:nvPr/>
        </p:nvPicPr>
        <p:blipFill>
          <a:blip r:embed="rId1"/>
          <a:stretch/>
        </p:blipFill>
        <p:spPr>
          <a:xfrm>
            <a:off x="208080" y="1077840"/>
            <a:ext cx="5024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8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ppens by interacting as much as it happens by teaching =&gt; child2child as important as child2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80880" y="13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495432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WiFi network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Networking built on top of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esh2"/>
          <p:cNvPicPr/>
          <p:nvPr/>
        </p:nvPicPr>
        <p:blipFill>
          <a:blip r:embed="rId1"/>
          <a:stretch/>
        </p:blipFill>
        <p:spPr>
          <a:xfrm>
            <a:off x="457200" y="1828800"/>
            <a:ext cx="2819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4481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 software (middleware, applications and 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lpc_09_550x413"/>
          <p:cNvPicPr/>
          <p:nvPr/>
        </p:nvPicPr>
        <p:blipFill>
          <a:blip r:embed="rId1"/>
          <a:stretch/>
        </p:blipFill>
        <p:spPr>
          <a:xfrm>
            <a:off x="533520" y="15238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OLPC Mesh Design Goals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ransparent as possible to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vity/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es NOT replace Access Points – It complements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esh1"/>
          <p:cNvPicPr/>
          <p:nvPr/>
        </p:nvPicPr>
        <p:blipFill>
          <a:blip r:embed="rId1"/>
          <a:stretch/>
        </p:blipFill>
        <p:spPr>
          <a:xfrm>
            <a:off x="380880" y="2514600"/>
            <a:ext cx="1905120" cy="117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mesh2"/>
          <p:cNvPicPr/>
          <p:nvPr/>
        </p:nvPicPr>
        <p:blipFill>
          <a:blip r:embed="rId2"/>
          <a:stretch/>
        </p:blipFill>
        <p:spPr>
          <a:xfrm>
            <a:off x="3200400" y="2438280"/>
            <a:ext cx="19810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XO Networking Architecture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068640" y="2695680"/>
            <a:ext cx="1494000" cy="70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D LX700 CP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 flipH="1">
            <a:off x="3068640" y="1782720"/>
            <a:ext cx="1494000" cy="37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ctr">
            <a:noAutofit/>
          </a:bodyPr>
          <a:p>
            <a:pPr algn="ctr">
              <a:lnSpc>
                <a:spcPct val="123000"/>
              </a:lnSpc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vell 8388 SoC Rad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57760" y="2157480"/>
            <a:ext cx="0" cy="538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81600" y="2239920"/>
            <a:ext cx="7873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62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B 2.0 Bu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814920" y="140976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3567240" y="1162080"/>
            <a:ext cx="455400" cy="247680"/>
            <a:chOff x="3567240" y="1162080"/>
            <a:chExt cx="455400" cy="247680"/>
          </a:xfrm>
        </p:grpSpPr>
        <p:sp>
          <p:nvSpPr>
            <p:cNvPr id="151" name="Line 9"/>
            <p:cNvSpPr/>
            <p:nvPr/>
          </p:nvSpPr>
          <p:spPr>
            <a:xfrm flipV="1">
              <a:off x="3815640" y="1162080"/>
              <a:ext cx="2070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3567240" y="1162080"/>
              <a:ext cx="2484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V="1">
              <a:off x="3815640" y="11620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567240" y="1162080"/>
              <a:ext cx="4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>
            <a:off x="704880" y="2446200"/>
            <a:ext cx="4437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036800" y="1825560"/>
            <a:ext cx="1866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2: Fram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077840" y="2862360"/>
            <a:ext cx="18669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>
              <a:lnSpc>
                <a:spcPct val="123000"/>
              </a:lnSpc>
              <a:spcBef>
                <a:spcPts val="814"/>
              </a:spcBef>
              <a:tabLst>
                <a:tab algn="l" pos="0"/>
                <a:tab algn="l" pos="249120"/>
                <a:tab algn="l" pos="498600"/>
                <a:tab algn="l" pos="747720"/>
                <a:tab algn="l" pos="996840"/>
                <a:tab algn="l" pos="1246320"/>
                <a:tab algn="l" pos="1495440"/>
                <a:tab algn="l" pos="1744560"/>
                <a:tab algn="l" pos="1994040"/>
                <a:tab algn="l" pos="2243160"/>
                <a:tab algn="l" pos="2492280"/>
                <a:tab algn="l" pos="2741760"/>
                <a:tab algn="l" pos="2990880"/>
                <a:tab algn="l" pos="3240000"/>
                <a:tab algn="l" pos="3489480"/>
                <a:tab algn="l" pos="3738600"/>
                <a:tab algn="l" pos="3987720"/>
                <a:tab algn="l" pos="4237200"/>
                <a:tab algn="l" pos="4486320"/>
                <a:tab algn="l" pos="4735440"/>
                <a:tab algn="l" pos="4984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3: Packe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students to share documents and directly interact with on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network connection between the student’s lapto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 Wireless (802.11b/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Wireless (802.1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long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Mesh vs.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reless mesh (802.11s) is an extension of traditional WiFi (802.11b/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use the same radio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usable channels around 2.4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mesh devices (the laptop) interoperate with WiFi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does not replace WiFi (it extends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 should be used a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80"/>
                </a:solidFill>
                <a:latin typeface="Arial"/>
              </a:rPr>
              <a:t>School WiFi</a:t>
            </a:r>
            <a:endParaRPr b="1" lang="en-US" sz="24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22384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WiFi (802.11b/g) access points, connected to a central switch and schoo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2679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cp:lastPrinted>2008-04-01T14:10:37Z</cp:lastPrinted>
  <dcterms:modified xsi:type="dcterms:W3CDTF">2008-09-18T20:09:29Z</dcterms:modified>
  <cp:revision>79</cp:revision>
  <dc:subject/>
  <dc:title>One Laptop per Child</dc:title>
</cp:coreProperties>
</file>